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6900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6900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2840" y="36900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560" y="11426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3960" y="11426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6900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560" y="36900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3960" y="36900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2840" y="11426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19000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1426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6900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84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2840" y="36900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84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6900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004760"/>
            <a:ext cx="8153280" cy="5229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6680" indent="-25668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5040" indent="-27288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74052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84528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95076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95076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95076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黑体"/>
              </a:rPr>
              <a:t>定时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宋体"/>
              </a:rPr>
              <a:t>/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黑体"/>
              </a:rPr>
              <a:t>计数器与中断系统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1" action="ppaction://hlinksldjump"/>
              </a:rPr>
              <a:t>5.1  定时/计数器结构特点及控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2" action="ppaction://hlinksldjump"/>
              </a:rPr>
              <a:t>5.2  中断系统结构及管理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3" action="ppaction://hlinksldjump"/>
              </a:rPr>
              <a:t>5.3  定时/计数器及中断系统综合应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．工作模式控制寄存器—</a:t>
            </a:r>
            <a:r>
              <a:rPr b="1" lang="en-US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TMOD</a:t>
            </a:r>
            <a:r>
              <a:rPr b="1" lang="en-US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89H</a:t>
            </a:r>
            <a:r>
              <a:rPr b="1" lang="en-US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）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69" name=""/>
          <p:cNvSpPr/>
          <p:nvPr/>
        </p:nvSpPr>
        <p:spPr>
          <a:xfrm>
            <a:off x="263844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tu5-1-5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6858000" cy="4138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5120" y="54864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工作模式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2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．定时器控制寄存器—</a:t>
            </a:r>
            <a:r>
              <a:rPr b="1" lang="en-US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TCON</a:t>
            </a:r>
            <a:r>
              <a:rPr b="1" lang="en-US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（</a:t>
            </a:r>
            <a:r>
              <a:rPr b="1" lang="en-US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88H</a:t>
            </a:r>
            <a:r>
              <a:rPr b="1" lang="en-US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） 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73" name=""/>
          <p:cNvSpPr/>
          <p:nvPr/>
        </p:nvSpPr>
        <p:spPr>
          <a:xfrm>
            <a:off x="265752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tu5-1-6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791400" cy="4087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28800" y="5181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工作模式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119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5.1.4  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定时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/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计数器常数的计算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计数器初值的计算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把计数器计满为零所需要的计数值设定为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计数初值设定为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C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由此可得到公式：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C=M-C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式中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为计数器模值，该值和计数器工作方式有关。在方式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 Narrow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；在方式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 Narrow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；在方式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和方式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 Narrow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339933"/>
              </a:solidFill>
              <a:latin typeface="Arial Narrow"/>
              <a:ea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定时器初值的计算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在定时器模式下，计数器由单片机主脉冲经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分频后计数。因此，定时器定时时间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的公式：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=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-TC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计数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上式也可写成：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C=M-T/ T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计数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式中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为模值，和定时器的工作方式有关；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计数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是单片机振荡周期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CLK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倍；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C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为定时器的定时初值。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"/>
          <p:cNvSpPr/>
          <p:nvPr/>
        </p:nvSpPr>
        <p:spPr>
          <a:xfrm>
            <a:off x="73119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5.2  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中断系统结构及管理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1" action="ppaction://hlinksldjump"/>
              </a:rPr>
              <a:t>5.2.1  中断请求与控制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2" action="ppaction://hlinksldjump"/>
              </a:rPr>
              <a:t>5.2.2  中断系统的结构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3" action="ppaction://hlinksldjump"/>
              </a:rPr>
              <a:t>5.2.3  中断控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5.2.4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中断响应过程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5.2.1  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中断请求与控制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	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tu5-7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016080" cy="423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45400" y="1219320"/>
            <a:ext cx="546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流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19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5.2.2  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中断系统的结构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	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9560" indent="-2595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外部中断源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595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P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3.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端口线引入，低电平或下降沿引起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595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P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3.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端口线引入，低电平或下降沿引起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59560" indent="-2595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内部中断源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5-8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595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定时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计数器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中断，由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回零溢出引起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595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定时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计数器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中断，由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回零溢出引起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595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I/RI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串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中断，完成一帧字符发送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接收引起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3848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tu5-8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448320" cy="4197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81080" y="55627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的结构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19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5.2.3  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中断控制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	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中断允许寄存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A8H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IE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在特殊功能寄存器中，字节地址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A8H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位地址分别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A8H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AFH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IE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控制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对中断源总的开放或禁止以及每个中断源是否允许中断。其格式如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5-9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中断优先寄存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IP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B8H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在特殊功能寄存器中，字节地址为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B8H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位地址分别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B8H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BFH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用来锁存各中断源优先级的控制位，其格式如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5-1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所示。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5256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tu5-2-3" descr=""/>
          <p:cNvPicPr/>
          <p:nvPr/>
        </p:nvPicPr>
        <p:blipFill>
          <a:blip r:embed="rId1"/>
          <a:stretch/>
        </p:blipFill>
        <p:spPr>
          <a:xfrm>
            <a:off x="914400" y="250920"/>
            <a:ext cx="7315200" cy="4403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57400" y="5105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5.1  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定时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/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计数器结构特点及控制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1" action="ppaction://hlinksldjump"/>
              </a:rPr>
              <a:t>5.1.1  定时/计数器结构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2" action="ppaction://hlinksldjump"/>
              </a:rPr>
              <a:t>5.1.2  定时/计数器工作方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3" action="ppaction://hlinksldjump"/>
              </a:rPr>
              <a:t>5.1.3  定时/计数器控制寄存器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4" action="ppaction://hlinksldjump"/>
              </a:rPr>
              <a:t>5.1.4  定时/计数器常数的计算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7467840" cy="4335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09680" y="5562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1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5.2.4  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中断响应过程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单片机在每个机器周期的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S5P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期间，顺序采样每个中断源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在下一个机器周期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S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期间按优先级顺序查询中断标志，如查询到某个中断标志为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，将在再下一个机器周期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S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期间按优先级进行中断处理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中断得到响应后自动清除中断标志，由硬件将程序计数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PC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内容压入堆栈保护，然后将对应的中断矢量装入程序计数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PC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使程序转向中断矢量地址单元中去执行相应的中断服务程序。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下列任何一种情况存在中断申请将被封锁：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正在执行一个同级或高一级的中断服务程序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当前正在执行的那条指令还未执行完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当前正在执行的指令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RETI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或对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寄存器进行读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写指令，执行这些指令后至少再执行一条指令才会响应中断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73119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5.3  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定时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/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计数器及中断系统综合应用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	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【例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5.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】设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单片机系统时钟频率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Ф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CLK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请编出利用定时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计数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P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1.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引脚上产生周期为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秒，占空比为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的方波信号的程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主程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任务：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0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工作方式的设定： 选择方式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位方式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最大定时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定时常数的设定：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C=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  <a:ea typeface="宋体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-100ms/2μs =15536=3CB0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339933"/>
              </a:solidFill>
              <a:latin typeface="Arial Narrow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即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H0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应装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L0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应装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0H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中断管理： 允许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0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中断，开放总中断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即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应装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000001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启动定时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：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ET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R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设置软件计数器初值：（如使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7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7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应装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动态停机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JMP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339933"/>
              </a:solidFill>
              <a:latin typeface="Arial Narrow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主程序如下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OV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MO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#01H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设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0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为方式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OV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H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#3CH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装入定时常数高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位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OV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L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#0B0H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装入定时常数低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位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OV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#82H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开放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0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中断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ET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R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启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OV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7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#0AH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设置软件计数器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JMP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339933"/>
              </a:solidFill>
              <a:latin typeface="Arial Narrow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中断服务程序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任务：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恢复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0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常数；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软件计数器减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；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判断软件计数器是否为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。为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时，改变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状态，并恢复软件计数器初值；不为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时中断返回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程序如下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OIN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OV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L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#0B0H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恢复定时常数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OV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H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#3CH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DJNZ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7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NEX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P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1.0           MOV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7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#0A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NEX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ET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400" spc="-1" strike="noStrike">
              <a:solidFill>
                <a:srgbClr val="339933"/>
              </a:solidFill>
              <a:latin typeface="Arial Narrow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完整程序如下：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RG     0000H                 AJMP       MAI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RG     000BH                AJMP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OI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RG     0030H                 MAI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OV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MO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#01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OV     TH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#3CH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OV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L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#0B0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OV     I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#82H            SET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R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OV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7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#0A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339933"/>
              </a:solidFill>
              <a:latin typeface="Arial Narrow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64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JMP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OIN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OV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L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#0B0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OV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H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#3C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DJNZ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7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NEX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P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1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OV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7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#0A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NEX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ET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523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ea1"/>
                </a:solidFill>
                <a:latin typeface="Arial Narrow"/>
                <a:ea typeface="宋体"/>
              </a:rPr>
              <a:t>THANK YOU VERY MUCH </a:t>
            </a:r>
            <a:r>
              <a:rPr b="1" lang="en-US" sz="4000" spc="-1" strike="noStrike">
                <a:solidFill>
                  <a:srgbClr val="009ea1"/>
                </a:solidFill>
                <a:latin typeface="Arial Narrow"/>
                <a:ea typeface="宋体"/>
              </a:rPr>
              <a:t>！</a:t>
            </a:r>
            <a:endParaRPr b="1" lang="en-US" sz="40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666520"/>
            <a:ext cx="7219800" cy="25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ctr">
              <a:lnSpc>
                <a:spcPct val="100000"/>
              </a:lnSpc>
              <a:spcBef>
                <a:spcPts val="405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Narrow"/>
                <a:ea typeface="宋体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ctr">
              <a:lnSpc>
                <a:spcPct val="100000"/>
              </a:lnSpc>
              <a:spcBef>
                <a:spcPts val="405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Narrow"/>
                <a:ea typeface="宋体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">
            <a:hlinkClick r:id="" action="ppaction://hlinkshowjump?jump=endshow"/>
          </p:cNvPr>
          <p:cNvSpPr/>
          <p:nvPr/>
        </p:nvSpPr>
        <p:spPr>
          <a:xfrm>
            <a:off x="54864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5.1.1  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定时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/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计数器结构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定时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计数器简称定时器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803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单片机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位的定时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计数器：定时器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0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和定时器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它们都有定时器或事件计数的功能，可用于定时控制、延时、对外部事件计数和检测等场合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个特殊功能寄存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构成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则由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H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L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构成。作计数器时，通过引脚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P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3.4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P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3.5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对外部脉冲信号计数，当输入脉冲信号从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的负跳变时，计数器就自动加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。计数的最高频率一般为振荡频率的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/2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73119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5.1.2  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定时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/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计数器工作方式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每个定时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计数器还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种工作模式，也就是每个定时器可构成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种电路结构模式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在模式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的工作模式相同，在模式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，两个定时器的模式不同。下面以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为例，分述各种工作模式的特点和用法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．模式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	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62960" cy="288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38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模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．模式</a:t>
            </a:r>
            <a:r>
              <a:rPr b="0" lang="zh-CN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1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54" name=""/>
          <p:cNvSpPr/>
          <p:nvPr/>
        </p:nvSpPr>
        <p:spPr>
          <a:xfrm>
            <a:off x="276228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686280" cy="2516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52480" y="48006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模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．模式</a:t>
            </a:r>
            <a:r>
              <a:rPr b="0" lang="zh-CN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2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287640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553080" cy="2595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00200" y="4876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模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．模式</a:t>
            </a:r>
            <a:r>
              <a:rPr b="0" lang="zh-CN" sz="3200" spc="-1" strike="noStrike">
                <a:solidFill>
                  <a:srgbClr val="339933"/>
                </a:solidFill>
                <a:latin typeface="Arial Narrow"/>
                <a:ea typeface="楷体_GB2312"/>
              </a:rPr>
              <a:t>3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3038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5791320" cy="3454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00200" y="5105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模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1960" y="6373440"/>
            <a:ext cx="12225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0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5.1.3  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定时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/</a:t>
            </a:r>
            <a:r>
              <a:rPr b="1" lang="zh-CN" sz="3200" spc="-1" strike="noStrike">
                <a:solidFill>
                  <a:srgbClr val="339933"/>
                </a:solidFill>
                <a:latin typeface="Arial Narrow"/>
                <a:ea typeface="宋体"/>
              </a:rPr>
              <a:t>计数器控制寄存器</a:t>
            </a:r>
            <a:endParaRPr b="1" lang="en-US" sz="3200" spc="-1" strike="noStrike">
              <a:solidFill>
                <a:srgbClr val="3399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定时器共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个控制寄存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MOD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C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由软件写入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MOD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CON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两个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位寄存器，设置各个定时器的操作模式和控制功能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8T18:28:15Z</dcterms:created>
  <dc:creator>H. James Toland III</dc:creator>
  <dc:description/>
  <dc:language>en-US</dc:language>
  <cp:lastModifiedBy>lei</cp:lastModifiedBy>
  <dcterms:modified xsi:type="dcterms:W3CDTF">2002-06-12T15:32:12Z</dcterms:modified>
  <cp:revision>53</cp:revision>
  <dc:subject/>
  <dc:title>Introduction</dc:title>
</cp:coreProperties>
</file>